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907D-09C8-4FD5-8DCA-D88ABC775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718D-B458-46F8-91EF-4BE875DC7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2FE3-26DE-43C4-A953-C122E0D78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E39C-D50A-41CC-BB65-717A8FB9D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D865-4A76-4746-9010-F18DD03EE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29F2-091E-4F8A-85E0-020822910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E787-CAD0-447C-B166-36CE015D9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45E9-1FAA-4A0E-AD38-5192DBABF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EA44-02AF-4D0B-B24F-2DD5A95AC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E7EE-6083-40B4-8DC9-C97E5163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7481-5C8E-423E-B654-5DD5B64C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2D67-8867-4048-9453-E81BE09B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C0255-08EB-4CD9-B440-E3C8B6B43E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6407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Голосеменные раст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000" y="1844280"/>
            <a:ext cx="8280360" cy="45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77933c"/>
              </a:solidFill>
              <a:latin typeface="Calibri"/>
            </a:endParaRPr>
          </a:p>
        </p:txBody>
      </p:sp>
      <p:pic>
        <p:nvPicPr>
          <p:cNvPr id="43" name="Рисунок 3" descr="C:\Program Files\Physicon\Open Biology 2.5\content\chapter4\section3\paragraph5\images\04030502.jpg"/>
          <p:cNvPicPr/>
          <p:nvPr/>
        </p:nvPicPr>
        <p:blipFill>
          <a:blip r:embed="rId1"/>
          <a:stretch/>
        </p:blipFill>
        <p:spPr>
          <a:xfrm>
            <a:off x="611280" y="1916280"/>
            <a:ext cx="8064360" cy="45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324000" y="260280"/>
            <a:ext cx="8569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олосеменны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это растения, которые образуют семена, но не формируют цветков и плодов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семена лежат открыто на поверхности чешуек шишек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коло 700 видов;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арактерна наибольшая продолжительность жизни - до 3 - 4,5 тыс. лет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http://www.megabook.ru/MObjects2/data/pict2001/e01032.jpg"/>
          <p:cNvPicPr/>
          <p:nvPr/>
        </p:nvPicPr>
        <p:blipFill>
          <a:blip r:embed="rId1"/>
          <a:stretch/>
        </p:blipFill>
        <p:spPr>
          <a:xfrm>
            <a:off x="395280" y="100080"/>
            <a:ext cx="2219400" cy="3429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http://www.megabook.ru/MObjects2/data/pict2004/biology/biol147.jpg"/>
          <p:cNvPicPr/>
          <p:nvPr/>
        </p:nvPicPr>
        <p:blipFill>
          <a:blip r:embed="rId2"/>
          <a:stretch/>
        </p:blipFill>
        <p:spPr>
          <a:xfrm>
            <a:off x="6056280" y="93600"/>
            <a:ext cx="2924280" cy="3429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C:\Documents and Settings\Ребяты\Мои документы\Мои рисунки\Рисунок1.jpg"/>
          <p:cNvPicPr/>
          <p:nvPr/>
        </p:nvPicPr>
        <p:blipFill>
          <a:blip r:embed="rId3"/>
          <a:stretch/>
        </p:blipFill>
        <p:spPr>
          <a:xfrm>
            <a:off x="2987640" y="3429000"/>
            <a:ext cx="2905200" cy="304812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5"/>
          <p:cNvSpPr/>
          <p:nvPr/>
        </p:nvSpPr>
        <p:spPr>
          <a:xfrm>
            <a:off x="2987640" y="69228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Хвойны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Сосновый бор"/>
          <p:cNvPicPr/>
          <p:nvPr/>
        </p:nvPicPr>
        <p:blipFill>
          <a:blip r:embed="rId1"/>
          <a:stretch/>
        </p:blipFill>
        <p:spPr>
          <a:xfrm>
            <a:off x="179280" y="404640"/>
            <a:ext cx="8867880" cy="630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www.artsait.ru/art/sh/shishkin/img/43.jpg"/>
          <p:cNvPicPr/>
          <p:nvPr/>
        </p:nvPicPr>
        <p:blipFill>
          <a:blip r:embed="rId1"/>
          <a:stretch/>
        </p:blipFill>
        <p:spPr>
          <a:xfrm>
            <a:off x="684360" y="765000"/>
            <a:ext cx="792000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900000" y="117360"/>
            <a:ext cx="777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Лабораторная работа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«Строение хвои и шишек голосеменных растений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95280" y="1268280"/>
          <a:ext cx="8497800" cy="3764160"/>
        </p:xfrm>
        <a:graphic>
          <a:graphicData uri="http://schemas.openxmlformats.org/drawingml/2006/table">
            <a:tbl>
              <a:tblPr/>
              <a:tblGrid>
                <a:gridCol w="1290600"/>
                <a:gridCol w="857160"/>
                <a:gridCol w="1509840"/>
                <a:gridCol w="1508040"/>
                <a:gridCol w="919080"/>
                <a:gridCol w="1062360"/>
                <a:gridCol w="1350720"/>
              </a:tblGrid>
              <a:tr h="627120">
                <a:tc rowSpan="2"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раст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во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иш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а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положение на вет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чешу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т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на обыкновен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ственн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Прямоугольник 5"/>
          <p:cNvSpPr/>
          <p:nvPr/>
        </p:nvSpPr>
        <p:spPr>
          <a:xfrm>
            <a:off x="900000" y="544500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Вывод: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7"/>
          <p:cNvSpPr/>
          <p:nvPr/>
        </p:nvSpPr>
        <p:spPr>
          <a:xfrm>
            <a:off x="2411280" y="544500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чему эти растения относят к голосеменным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1258920" y="77040"/>
            <a:ext cx="67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равнительная характеристика ели и сос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11280" y="765000"/>
          <a:ext cx="7495920" cy="5329440"/>
        </p:xfrm>
        <a:graphic>
          <a:graphicData uri="http://schemas.openxmlformats.org/drawingml/2006/table">
            <a:tbl>
              <a:tblPr/>
              <a:tblGrid>
                <a:gridCol w="2263680"/>
                <a:gridCol w="2616120"/>
                <a:gridCol w="2616120"/>
              </a:tblGrid>
              <a:tr h="863640">
                <a:tc>
                  <a:txBody>
                    <a:bodyPr lIns="53640" rIns="53640" tIns="53640" bIns="53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наки срав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ь сибирс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на обыкновен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ношение к почв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ношение к све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кро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бенности корневой систе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3280"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положение хвоинок на вет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 жизни хвоин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0040"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 жизни раст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2"/>
          <p:cNvSpPr/>
          <p:nvPr/>
        </p:nvSpPr>
        <p:spPr>
          <a:xfrm>
            <a:off x="826920" y="1052640"/>
            <a:ext cx="7632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цените  свою активность на урок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! » - отвечал(а) по своей инициативе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?» - отвечал (а) по просьбе учителя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0» - не отвечал (а)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468360" y="226440"/>
            <a:ext cx="82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Зеленый шар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мне было всё понятно, я не испытывал(а) затруднений при выполнении задани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Жёлтый  шар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 у меня возникли некоторые трудности  при выполнении задани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Красный шар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  я не понял(а) материал урока и  не смог(ла) справиться с некоторыми задания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09:50:15Z</dcterms:created>
  <dc:creator>Живоглазова </dc:creator>
  <dc:description/>
  <dc:language>en-US</dc:language>
  <cp:lastModifiedBy>Admin</cp:lastModifiedBy>
  <dcterms:modified xsi:type="dcterms:W3CDTF">2014-04-15T04:56:35Z</dcterms:modified>
  <cp:revision>52</cp:revision>
  <dc:subject/>
  <dc:title> Презентация по биологии –  Отдел Голосеменные растения</dc:title>
</cp:coreProperties>
</file>